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B06-78E3-4C8F-9F09-2FD32E4B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7FC-0666-408B-AB1E-A69A676E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004-2E6E-4CA2-A95C-DFA2B085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BDA-5587-456F-9D15-509B77DD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26E-A9C6-4475-8FCE-50EC668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61D-193F-460F-993F-016719E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2F8-F89B-42C7-8D1E-2CBC22D0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075-89A1-46A7-8933-77772631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577-98B7-49DE-A37A-4960761A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178-E86A-4F12-8E60-394EEE7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787-1402-46BB-A765-3C6AD49B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D14-1D26-4A16-AF78-2DA596E8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5A4F-0A3D-4227-A444-62512F8E7D39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thebrightestman.wikispaces.com/file/view/russiansocstructure.jpg/61924036/russiansocstructure.jpg"/>
          <p:cNvPicPr/>
          <p:nvPr/>
        </p:nvPicPr>
        <p:blipFill>
          <a:blip r:embed="rId1"/>
          <a:srcRect l="0" t="0" r="3511" b="0"/>
          <a:stretch/>
        </p:blipFill>
        <p:spPr>
          <a:xfrm>
            <a:off x="1403280" y="260280"/>
            <a:ext cx="6193080" cy="6337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95280" y="40464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What does this picture tell us about Russian societ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250920" y="960480"/>
            <a:ext cx="8569080" cy="5895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Nobility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own 25% of land but make up only 2% of populatio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Capitalist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bankers and factory owners who get rich from the industry but do little to help the worker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Middle clas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educated doctors, lawyers and teachers who are aware of western political idea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Peasant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work the land and live in poverty as often cannot sustain their family on their small patch of land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Working clas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work in the factories for long hours for low pay  and live in miserable, unhygienic and cramped conditions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95280" y="189000"/>
            <a:ext cx="6264360" cy="7038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is summary into your jotter under the heading, “Imperial Russia: Russian Societ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6" descr="http://www.magicalmaths.org/wp-content/uploads/2012/11/conclusion-introduction-starter-plenary1.jpg"/>
          <p:cNvPicPr/>
          <p:nvPr/>
        </p:nvPicPr>
        <p:blipFill>
          <a:blip r:embed="rId1"/>
          <a:stretch/>
        </p:blipFill>
        <p:spPr>
          <a:xfrm rot="1363200">
            <a:off x="6489360" y="109440"/>
            <a:ext cx="844560" cy="887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encrypted-tbn0.gstatic.com/images?q=tbn:ANd9GcRUbBUIggcoHNmAtpz24umzYTs3GAUXjKBAOvnxZtKTBqmaGf5zDg"/>
          <p:cNvPicPr/>
          <p:nvPr/>
        </p:nvPicPr>
        <p:blipFill>
          <a:blip r:embed="rId1"/>
          <a:stretch/>
        </p:blipFill>
        <p:spPr>
          <a:xfrm rot="1744800">
            <a:off x="3458880" y="2892600"/>
            <a:ext cx="3816360" cy="381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549360"/>
            <a:ext cx="8229600" cy="1612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Complete the questions on your worksheet in your jo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Answer in full sentences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clothesonfilm.com/wp-content/uploads/2012/12/Anna-Karenina_Matthew-McFadden-Keira-Knightley-full_Image-credit-Working-Title-Films.jpg"/>
          <p:cNvPicPr/>
          <p:nvPr/>
        </p:nvPicPr>
        <p:blipFill>
          <a:blip r:embed="rId1"/>
          <a:stretch/>
        </p:blipFill>
        <p:spPr>
          <a:xfrm>
            <a:off x="0" y="0"/>
            <a:ext cx="5076720" cy="319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schillerinstitute.org/graphics/photos/events_places/russian_peasants.jpg"/>
          <p:cNvPicPr/>
          <p:nvPr/>
        </p:nvPicPr>
        <p:blipFill>
          <a:blip r:embed="rId2"/>
          <a:stretch/>
        </p:blipFill>
        <p:spPr>
          <a:xfrm>
            <a:off x="0" y="3174840"/>
            <a:ext cx="5076720" cy="368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s://vcerevolutions.wikispaces.com/file/view/3sisters.gif/353448694/3sisters.gif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23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almanachdegotha.org/sitebuildercontent/sitebuilderpictures/imperialrussianball.jpg"/>
          <p:cNvPicPr/>
          <p:nvPr/>
        </p:nvPicPr>
        <p:blipFill>
          <a:blip r:embed="rId4"/>
          <a:stretch/>
        </p:blipFill>
        <p:spPr>
          <a:xfrm>
            <a:off x="5076720" y="4200480"/>
            <a:ext cx="4067280" cy="2657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5076720" y="2349360"/>
            <a:ext cx="4067280" cy="1922400"/>
          </a:xfrm>
          <a:prstGeom prst="rect">
            <a:avLst/>
          </a:prstGeom>
          <a:solidFill>
            <a:srgbClr val="fcd5b5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81bd"/>
                </a:solidFill>
                <a:latin typeface="Comic Sans MS"/>
              </a:rPr>
              <a:t>Imperial Russi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81bd"/>
                </a:solidFill>
                <a:latin typeface="Comic Sans MS"/>
              </a:rPr>
              <a:t>Russian Socie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1.gstatic.com/images?q=tbn:ANd9GcQcv8WUkhm7pMq4IL3JuoGWuvfCpezukDjXPJ7ZZfkGRbVOES_y"/>
          <p:cNvPicPr/>
          <p:nvPr/>
        </p:nvPicPr>
        <p:blipFill>
          <a:blip r:embed="rId1"/>
          <a:srcRect l="0" t="23077" r="0" b="22211"/>
          <a:stretch/>
        </p:blipFill>
        <p:spPr>
          <a:xfrm>
            <a:off x="3492360" y="260280"/>
            <a:ext cx="3167280" cy="1773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24000" y="5493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Learning Inten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By the end of this lesson you should be able to explain how Russian society was divided and the potential problems this could have for the T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11280" y="3789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Success Crite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Participate in class dis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Answer questions in your jotter in full sent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4" descr="http://photos1.blogger.com/blogger/3343/2251/1600/target%5b1%5d.jpg"/>
          <p:cNvPicPr/>
          <p:nvPr/>
        </p:nvPicPr>
        <p:blipFill>
          <a:blip r:embed="rId2"/>
          <a:stretch/>
        </p:blipFill>
        <p:spPr>
          <a:xfrm rot="609000">
            <a:off x="3492000" y="3357360"/>
            <a:ext cx="1943280" cy="141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39640" y="404640"/>
            <a:ext cx="8136000" cy="33858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46c0a"/>
                </a:solidFill>
                <a:latin typeface="Comic Sans MS"/>
              </a:rPr>
              <a:t>Russia had very clear </a:t>
            </a:r>
            <a:r>
              <a:rPr b="1" lang="en-GB" sz="2400" spc="-1" strike="noStrike">
                <a:solidFill>
                  <a:srgbClr val="e46c0a"/>
                </a:solidFill>
                <a:latin typeface="Comic Sans MS"/>
              </a:rPr>
              <a:t>social div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46c0a"/>
                </a:solidFill>
                <a:latin typeface="Comic Sans MS"/>
              </a:rPr>
              <a:t>It resulted in a backward society which had made none of the progress that the rest of Europe had m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46c0a"/>
                </a:solidFill>
                <a:latin typeface="Comic Sans MS"/>
              </a:rPr>
              <a:t>Unless you were in the small, rich noble class you had very few rights and support from the gover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4" descr="http://25.media.tumblr.com/tumblr_lt74ouW7sB1r3sn0vo1_500.jpg"/>
          <p:cNvPicPr/>
          <p:nvPr/>
        </p:nvPicPr>
        <p:blipFill>
          <a:blip r:embed="rId1"/>
          <a:stretch/>
        </p:blipFill>
        <p:spPr>
          <a:xfrm>
            <a:off x="5364000" y="3933720"/>
            <a:ext cx="3394080" cy="272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s://encrypted-tbn1.gstatic.com/images?q=tbn:ANd9GcQr0Mz_jgk4HoXEs2Mvwf0qotDmZpv_Y9yUhpbr5AbTr2fi4tD_Fg"/>
          <p:cNvPicPr/>
          <p:nvPr/>
        </p:nvPicPr>
        <p:blipFill>
          <a:blip r:embed="rId2"/>
          <a:stretch/>
        </p:blipFill>
        <p:spPr>
          <a:xfrm>
            <a:off x="684360" y="3933720"/>
            <a:ext cx="4319280" cy="2592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24000" y="333360"/>
            <a:ext cx="7920000" cy="33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7030a0"/>
                </a:solidFill>
                <a:latin typeface="Comic Sans MS"/>
              </a:rPr>
              <a:t>Nobility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 was the top class of people in Russ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ir wealth was based on the land they owned and the peasants that worked that 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y made up less than 2% of the population but owned 25% of the land in the Emp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y supported the Tsar and feared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4" descr="http://thebrightestman.wikispaces.com/file/view/russiansocstructure.jpg/61924036/russiansocstructure.jpg"/>
          <p:cNvPicPr/>
          <p:nvPr/>
        </p:nvPicPr>
        <p:blipFill>
          <a:blip r:embed="rId1"/>
          <a:srcRect l="0" t="62583" r="3511" b="15917"/>
          <a:stretch/>
        </p:blipFill>
        <p:spPr>
          <a:xfrm>
            <a:off x="1187280" y="3933720"/>
            <a:ext cx="7417080" cy="259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95280" y="620640"/>
            <a:ext cx="4176720" cy="521460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A new rich but not as powerful class was starting to appear in 1900 called the </a:t>
            </a:r>
            <a:r>
              <a:rPr b="1" lang="en-GB" sz="2400" spc="-1" strike="noStrike">
                <a:solidFill>
                  <a:srgbClr val="00b050"/>
                </a:solidFill>
                <a:latin typeface="Comic Sans MS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is class was made up of bankers and factory owners who became rich from the profits of the growth of industry in Russ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y did little to improve the conditions that their workers lived and work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https://encrypted-tbn2.gstatic.com/images?q=tbn:ANd9GcRoEIAgs91NEFLw9LZC2Uya47A-0NDQFRnXTQLZjl5OfzKeHzDcqA"/>
          <p:cNvPicPr/>
          <p:nvPr/>
        </p:nvPicPr>
        <p:blipFill>
          <a:blip r:embed="rId1"/>
          <a:stretch/>
        </p:blipFill>
        <p:spPr>
          <a:xfrm>
            <a:off x="4716360" y="404640"/>
            <a:ext cx="3959280" cy="5573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50920" y="260280"/>
            <a:ext cx="8569080" cy="302004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A very small </a:t>
            </a: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middle class </a:t>
            </a: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began to app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It was made up of lawyers, doctors and teachers who were educated and lived comfortable but not luxurious l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This group knew about Western ideas of democracy and could potential be a threat to the </a:t>
            </a:r>
            <a:r>
              <a:rPr b="0" i="1" lang="en-GB" sz="2400" spc="-1" strike="noStrike">
                <a:solidFill>
                  <a:srgbClr val="4f81bd"/>
                </a:solidFill>
                <a:latin typeface="Comic Sans MS"/>
              </a:rPr>
              <a:t>status qu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http://c10184100.r0.cf2.rackcdn.com/03-30-56_spencer-family_original.jpg"/>
          <p:cNvPicPr/>
          <p:nvPr/>
        </p:nvPicPr>
        <p:blipFill>
          <a:blip r:embed="rId1"/>
          <a:stretch/>
        </p:blipFill>
        <p:spPr>
          <a:xfrm>
            <a:off x="1835280" y="3141720"/>
            <a:ext cx="5040360" cy="3514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95280" y="189000"/>
            <a:ext cx="8137440" cy="48488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Peasant</a:t>
            </a: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 class made up the most of Russia’s pop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Until 1861 peasants had been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Serfs, </a:t>
            </a: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owned by the nobility with no rights and forced to work the lan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Now they were free, they  still worked the land for the nobility but were given a small piece of land to farm to sustain their fami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This little piece of land came from the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Mir</a:t>
            </a: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 and had to be paid for over 49 years before they owned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http://thebrightestman.wikispaces.com/file/view/russiansocstructure.jpg/61924036/russiansocstructure.jpg"/>
          <p:cNvPicPr/>
          <p:nvPr/>
        </p:nvPicPr>
        <p:blipFill>
          <a:blip r:embed="rId1"/>
          <a:srcRect l="0" t="72750" r="2407" b="0"/>
          <a:stretch/>
        </p:blipFill>
        <p:spPr>
          <a:xfrm>
            <a:off x="1187280" y="4797360"/>
            <a:ext cx="648036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9640" y="188640"/>
            <a:ext cx="8064720" cy="6264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Some peasants left the country and moved to the cities to work in the factories making a new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working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Life in the cities was just as hard as hours were long and living conditions unhygienic and crow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Overcrowding, low pay, accidents at work, 12 hour shifts, poor and cheap di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Trade Unions and striking was illegal making it impossible to negotiate better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But living and working closely together allowed ideas and suggestions of rebelling to spr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http://web.ku.edu/~eceurope/hist557/lect6_files/weavingmill.jpg"/>
          <p:cNvPicPr/>
          <p:nvPr/>
        </p:nvPicPr>
        <p:blipFill>
          <a:blip r:embed="rId1"/>
          <a:stretch/>
        </p:blipFill>
        <p:spPr>
          <a:xfrm>
            <a:off x="468360" y="260280"/>
            <a:ext cx="8343720" cy="59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8:54:37Z</dcterms:created>
  <dc:creator>N. Cantley</dc:creator>
  <dc:description/>
  <dc:language>en-US</dc:language>
  <cp:lastModifiedBy>Natalie1990</cp:lastModifiedBy>
  <dcterms:modified xsi:type="dcterms:W3CDTF">2013-08-05T11:29:56Z</dcterms:modified>
  <cp:revision>15</cp:revision>
  <dc:subject/>
  <dc:title>Slide 1</dc:title>
</cp:coreProperties>
</file>